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643-78DD-41A2-8385-D2CDA5A0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930-FC65-447C-991D-DC8BB69D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15E-787B-4E47-AEA1-9C654BC1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BC3-2931-4C63-8739-6A330847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52C6-556D-4FDB-9656-ED98583A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235E-AA38-4968-8EBE-C7D7930E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55E-9C44-41E0-8091-2A914CB3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E644-0478-42FA-A19F-C3067C87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99DC-C3F0-420A-8339-6FF150E1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BAC3-3F16-4A25-8C53-AA5367C7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7DDA-EEAB-4D27-82EC-60B3C69D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DB5-9519-4028-87B9-00BE0C8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C765-02E8-4BCE-8D7E-0DEC8AAA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3BF4-97E0-4F13-B8F1-B495635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4DDE-9577-4700-9B31-94EEDD91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5756-1BE7-499F-A350-A5F3DA04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D955-006D-4B8F-9C1E-BEFB3D1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D9E-CAC5-411D-BB0C-2B2341E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DCE-8FC4-4C7F-9885-516F7C67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5A7-9F0A-4D6A-98AB-856F730C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FEC-A826-4189-9075-E8A05918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0D5-DE37-4ECD-BBDD-7643057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40D-99D6-4E85-967E-16648D6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457-93ED-4EB3-818F-A64CA0FF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E2F0-FD36-4E46-948C-24B70EF3E9A1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834A-C959-4FEA-87DC-2D4B74BB3D3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dff"/>
                </a:solidFill>
                <a:latin typeface="Comic Sans MS"/>
              </a:rPr>
              <a:t>The perfect tense</a:t>
            </a:r>
            <a:br>
              <a:rPr sz="4400"/>
            </a:br>
            <a:r>
              <a:rPr b="0" lang="en-GB" sz="4400" spc="-1" strike="noStrike">
                <a:solidFill>
                  <a:srgbClr val="703dff"/>
                </a:solidFill>
                <a:latin typeface="Comic Sans MS"/>
              </a:rPr>
              <a:t>(Le Pass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é Composé)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- Use and 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- Perfect with Avoi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- Perfect with E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-Time express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. Passerat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flexive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 reflexive verbs use the auxiliary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perfect ten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 lever (to get u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 me suis levé(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 t’es levé(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,Elle,On s’est levé(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us nous sommes levé(e)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us vous êtes levé(e)(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,Elles se sont levé(e)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- Time expres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’an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e dernière (last ye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t-hier (the day before yesterda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 (yesterda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 matin/soir (yesterday morning/even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dant les dernières vacances (during the last holiday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emaine dernière (last wee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week-end dernier (last week-e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5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-Use and form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ense is used to describe a single completed action in the pa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needs 2 parts: the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uxiliary ver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avoir 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être in the present)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the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gular past parti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ast participle of a verb is the form that generally corresponds to th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–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nding in English (play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chang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finish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R verbs end in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mang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 verbs end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vend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en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IR verbs end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(fin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759280" y="4005360"/>
            <a:ext cx="39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59280" y="450864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59280" y="5049720"/>
            <a:ext cx="46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-Avoir verb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st verbs use the auxiliary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avoi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ndings always stay the sa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GARD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ND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l, Elle, On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on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vez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ls, Ell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ont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egar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n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792000" y="3284640"/>
            <a:ext cx="756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2600280"/>
            <a:ext cx="0" cy="27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637000"/>
            <a:ext cx="0" cy="27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12000" y="2673360"/>
            <a:ext cx="0" cy="27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rregular past parti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voir (j’ai eu/I had)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être (j’ai été/I was)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re (j’ai fait/I did), peindre (j’ai peint/I painted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Ending in “it”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Ending in “ert”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 (j’ai dit/I said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rir (j’ai offert/I offered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crire (j’ai écrit/I wrot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vrir (j’ai ouvert/I opened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Ending in “is”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tre (j’ai mis/I pu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ndre (j’ai pris/I too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mettre (j’ai promis/I promis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ttre (j’ai remis/I put back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892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ding in “u”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ire (j’ai bu/I drank), con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ître (j’ai connu/Iknew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rir (j’ai couru/I ran), devoir (j’ai dû/I had to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raître (j’ai disparu/I disappeared), lire (j’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/read), pleuvoir (il a plu/It rained), pouvoir (j’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/I could), recevoir (j’ai reçu/I received), savoi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j’ai su/I knew), tenir (j’ai tenu/I held), vivre (j’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écu/I lived), voir (j’ai vu/I saw), vouloir (j’ai voulu/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ted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3- Etre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are some verbs that use the auxiliary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at case, the past participle agrees with the subject (masculine, feminine, singular or plural endings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7280" y="1844640"/>
            <a:ext cx="8461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-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DESCEND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ART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ui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l,Elle, On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omm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êt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(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(s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(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s, Elle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é(e)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descendu(e)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i(e)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2708280"/>
            <a:ext cx="799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1989000"/>
            <a:ext cx="0" cy="31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1952640"/>
            <a:ext cx="0" cy="316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1640" y="1952640"/>
            <a:ext cx="0" cy="32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st of Etre verb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t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go up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t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stay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i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come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enu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riv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arrive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ri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ît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 be born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é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ti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go out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rti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mb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fall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m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t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stay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l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go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uri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die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rt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ti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leave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rti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trer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enter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nt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scendr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to get off/go down)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scendu(e)(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. Passerat</a:t>
            </a:r>
          </a:p>
        </p:txBody>
      </p:sp>
    </p:spTree>
  </p:cSld>
  <p:transition>
    <p:checker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09-10-21T23:18:0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